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405-C80B-44E1-B84D-A1B7665A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9CCF-D6D0-4401-AE09-B26A2E72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ABDF-BA38-4E20-91DD-D1081491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C40-1FED-42DC-A195-9CD86301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F552-23AF-4334-84AA-31249882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3C19-4C90-4C28-8191-CA9C9B97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D441-3782-49B0-90CA-1E0AD611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EC8B-DAE0-4DBB-8685-6EB23927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107C-DCBC-47F2-8AC7-6B29C3A6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5996-9F62-400A-AFCB-75094805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D315-EE2D-4438-A06C-B9D70642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8CC-0B11-4C69-BFF5-B586FCD7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C37B-741F-40AC-80AF-E3552392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4EEF-01AA-4EFB-B385-7D20878C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BD62-3BD5-44F7-9847-CEB36997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3C2B-03CB-4AAD-BAA0-DA38BF5F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7B0A-B6A5-47C3-A3C6-8F79DE3E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FA5-5CB8-4BEA-AE8C-A3A3D57C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E47-8A2D-4111-AE0F-FBF152DC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73A-FEB7-4D83-B467-50492CFF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743-2E26-4EA4-B251-55018D76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DDF-28FE-4406-9E94-4168BA53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DCA-C2FA-4F11-B0E6-629DC817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B3B4-6E88-409C-A4CF-7A5B42DD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E77A-7947-4099-8B85-BFC1A0994F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B4C6-C4E6-4129-92E3-1E2202FF6D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66"/>
                </a:solidFill>
                <a:latin typeface="Arial Black"/>
              </a:rPr>
              <a:t>ОЦЕНКА ЗАВИСИМОСТИ СПРОСА НА ПЕРЕВОЗКИ ОТ УРОВНЯ КАЧЕСТВА ТРАНСПОРТНОГО ОБСЛУЖИВАНИЯ ГРУЗОВЛАДЕЛЬЦЕВ</a:t>
            </a: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4680" y="3430440"/>
            <a:ext cx="6222960" cy="15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ов Юрий Игоревич, д.э.н., профессор кафедры «Экономика и управление на транспорте» Московского государственного университета путей сообщения (МИ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месячная динамика Индекса качеств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6" descr=""/>
          <p:cNvPicPr/>
          <p:nvPr/>
        </p:nvPicPr>
        <p:blipFill>
          <a:blip r:embed="rId2"/>
          <a:stretch/>
        </p:blipFill>
        <p:spPr>
          <a:xfrm>
            <a:off x="785880" y="1928880"/>
            <a:ext cx="771516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удовлетворенности клиентов уровнем ставок за перевозку грузов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Диаграмма 5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7786800" cy="407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Общие сведения о методике расчета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1760" y="1905120"/>
            <a:ext cx="4452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дальнейшего анализа из всех показателей, входящих в Индекс, нами были выделены пять важнейших, оказывающих, на наш взгляд, решающее значение на выбор клиентом транспортной комп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блюдение сроков достав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хранность груз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еревозка «от двери до двери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лнота удовлетворения сп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дача вагонов по граф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ный показ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чества рассчитан по форму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2143080" y="5572080"/>
                <a:ext cx="10288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2" name="TextBox 9" descr=""/>
          <p:cNvPicPr/>
          <p:nvPr/>
        </p:nvPicPr>
        <p:blipFill>
          <a:blip r:embed="rId1"/>
          <a:stretch/>
        </p:blipFill>
        <p:spPr>
          <a:xfrm>
            <a:off x="5443560" y="2182680"/>
            <a:ext cx="3279600" cy="401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нные для расчета эластичности спрос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909720" y="1905120"/>
          <a:ext cx="7400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905120"/>
                    <a:ext cx="7400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6" descr="miit"/>
          <p:cNvPicPr/>
          <p:nvPr/>
        </p:nvPicPr>
        <p:blipFill>
          <a:blip r:embed="rId3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уровня качества транспортного обслуживания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К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9" name="Рисунок 21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4032360" cy="4027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62,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степени удовлетворенности клиентов уровнем тарифов </a:t>
            </a: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P)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3" name="Рисунок 21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028760" cy="4038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Q=0,53Р+97,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Сфера применения результатов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ные компании (прогнозирование реакции рынка, оценка эффективности проводимых мероприятий, выбор стратегии роста клиентоориентирова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ы государственного регулирования (индикатор развития конкуренции на рынке грузовых перевоз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7:03:46Z</dcterms:created>
  <dc:creator>Юрий Соколов</dc:creator>
  <dc:description/>
  <dc:language>en-US</dc:language>
  <cp:lastModifiedBy>Evgeny</cp:lastModifiedBy>
  <dcterms:modified xsi:type="dcterms:W3CDTF">2014-11-12T06:40:07Z</dcterms:modified>
  <cp:revision>6</cp:revision>
  <dc:subject/>
  <dc:title>Оценка зависимости спроса на перевозки от уровня качества транспортного обслуживания грузовладельцев</dc:title>
</cp:coreProperties>
</file>